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E087-35B3-4C53-984F-8866877A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0897-73FE-49CE-8871-B704DC49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75DF-9133-4385-81A5-6F946832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B0B1-09A6-4351-877D-F7E53C2C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EBAE-6CE3-462F-BAA4-07D3D143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D4F5-0ADB-48DF-BDC2-C5EB7AA0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C299-B2EF-465B-898D-2465ECF8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1F1F-5478-4795-8C07-C2FC54B4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6DBE-E147-4E16-A16B-FE9A0482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541F-4662-44F8-AA0D-CBE61124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18A2-6EB2-4B9A-A36C-6704A5A9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53DC-93D7-42EB-9C88-7B355B39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D869-1662-4414-A590-BF37272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CE94-194A-4DE2-AA92-FA0AA56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FB8-3996-4277-B457-F11126D8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F347-3B9E-4803-9FC1-30525314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5798-274B-4D69-8829-C60CB7CD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558C-A457-4759-AF76-5E23CCE0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6D3C-304E-4065-9918-C8FFB120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798B-DFF7-4FCE-99C8-539AB7A8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4AEF-5B64-424F-BB38-9022EE27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76F3-66C1-4F48-AE6B-7E7228A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713A-6514-47B3-9009-7D8C2980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733C-C7E3-4D1B-B444-EF855711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74E9-9A7C-4AE5-AEF2-ED287A88B9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6E21-E764-4933-A92A-A69FA627CA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onnie Campbell</cp:lastModifiedBy>
  <dcterms:modified xsi:type="dcterms:W3CDTF">2002-05-31T21:57:07Z</dcterms:modified>
  <cp:revision>4</cp:revision>
  <dc:subject/>
  <dc:title>Guess the Covered Word</dc:title>
</cp:coreProperties>
</file>